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F78F-AB9F-41C3-9DCF-CA29F26B4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F83A-522B-4E4D-9EEF-67C67A8A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7341-CB94-44F7-91E5-380E0B77E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AF21-A270-4791-8C46-9EE08E965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77C8-970E-4ED6-8F5A-561384A0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DBA9-1E6B-4DDC-9557-50457C0A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2135-7916-4825-A850-6EA68271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45AC-0605-428F-AAEA-9A948965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CCE1-B03C-46BF-8467-44B3F4D7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4BAD-A65E-46B4-825F-66D5C660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E00D-DF52-4C23-BE92-2B547CE2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8C05-CD03-47AF-91AF-164875C7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328F-482C-454C-8B94-91E30E313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711000"/>
            <a:ext cx="844416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ory Elem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58320" y="1504800"/>
            <a:ext cx="7466040" cy="48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- Lois Low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y Elements by Madison Y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3556080" y="1809720"/>
            <a:ext cx="267948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                        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setting is 1943 and the Nazis and German Soldiors are taking over Denmark, and relocating Jewish peopl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4991040" y="1887480"/>
            <a:ext cx="439416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                 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Main Character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nemarie- The brave friend who goes on a brave, but dangerous mission to help save her best friend who is Jewish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llen-The best friend who is Jewish and her and her family is being sent to Sweden by Annemarie's Uncle Henric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530680" y="1504440"/>
            <a:ext cx="378936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734080" y="1581120"/>
            <a:ext cx="42894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226120" y="1581120"/>
            <a:ext cx="37954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5181480" y="1403280"/>
            <a:ext cx="395316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                 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Minor Character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6240" y="1828800"/>
            <a:ext cx="4587840" cy="569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se- She is Annemarie's older brother but she dies by a German car while being in the resistanc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ncle Hentick- He is helping the Rosens' escape to Sweden bu keeping them in a secret compartment on his boat and sailing them to Swede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ter- He was Lise's fiance and a part of the resistanc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5079960" y="1708200"/>
            <a:ext cx="46371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                  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max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climax is when Mama breaks her ankle and Annemarie has to take a brave, but dangerous mssion through the dark forest to give Uncle Henrick something in a basket that can help save Ellen and her family's lif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4775040" y="996840"/>
            <a:ext cx="495324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                        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Them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theme of bravery in this story is when Annemarie goes in the woods and has to talk to soldiors and has to bring Uncle Henrick a basket with a something that can save Ellen and her family's lif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5181480" y="1301760"/>
            <a:ext cx="425952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Windows User</cp:lastModifiedBy>
  <dcterms:modified xsi:type="dcterms:W3CDTF">2011-02-09T14:22:30Z</dcterms:modified>
  <cp:revision>1</cp:revision>
  <dc:subject/>
  <dc:title>PowerPoint Presentation</dc:title>
</cp:coreProperties>
</file>